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0425-1001-4BFC-9516-96D08F9C4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DB85-9D56-4BA5-935C-D9CE7B40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26EB-80AD-4DB7-940A-887592E9F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E020-DF20-4ED0-8ACD-E04DC3F0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85DB-101C-40E7-B5A9-BAAC7E61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6B13-1A50-4BDA-B949-DF8DC707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7113-CC16-4BB6-B668-8F758046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D6AC-A065-4B58-B03A-950C6598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EFF5-BF1B-4400-87A6-41831F82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685E-7266-4F57-8EE4-3C3EB38D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1C8A-C38B-45A3-804A-61B558BF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D287-FD26-402B-B708-DCA64E26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7062-C4E6-40DE-A17D-B7339114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C2E0-57A7-414B-90BA-BC6DE431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E279-0CFF-497C-9FF7-6CB0284B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3F95-4C6B-4F8D-8859-8B930A241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C740-FAC6-4F9A-B424-1A0AB6775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34EA-5183-4A68-849F-208A1B81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2E75-47F8-4C4C-B520-85C06DB2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230C-903E-426C-BB33-D973E3D6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A14F-495A-46C1-A513-BC44088D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C531-FACF-41A4-827D-C1BAD627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7F81-24C3-4AEF-9631-81E6748C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2461-767D-4CD4-891A-E255827D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B16B-8235-4CEF-888B-44C1E64012FE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BB3B-FAF0-4EE2-BD86-3E10E25085B4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Автоматизация 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л]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в  начале   слов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ом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914560" y="1981080"/>
            <a:ext cx="3314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уч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95480" y="1981080"/>
            <a:ext cx="5153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унк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74920" y="1981080"/>
            <a:ext cx="6194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ыжи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ап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836720" y="1981080"/>
            <a:ext cx="5469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авк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954080" y="1981080"/>
            <a:ext cx="5235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ось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382840" y="1981080"/>
            <a:ext cx="437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ожк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398680" y="1981080"/>
            <a:ext cx="434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асточк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андыш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038400" y="1981080"/>
            <a:ext cx="3067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апш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52760" y="1981080"/>
            <a:ext cx="5837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авин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19480" y="1981080"/>
            <a:ext cx="2705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3T17:57:02Z</dcterms:created>
  <dc:creator>Алексей</dc:creator>
  <dc:description/>
  <dc:language>en-US</dc:language>
  <cp:lastModifiedBy>тест</cp:lastModifiedBy>
  <dcterms:modified xsi:type="dcterms:W3CDTF">2012-02-29T08:43:51Z</dcterms:modified>
  <cp:revision>3</cp:revision>
  <dc:subject/>
  <dc:title>Автоматизация  [л]  в  начале слова</dc:title>
</cp:coreProperties>
</file>